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EB14-CE54-47C3-AE02-734FCD62A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4B0A-6A7C-421A-86E4-7121EED10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7EC-B41A-4F4D-9F0D-362429B6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9D8-0350-4A5B-A897-7773BDD0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7C9-3917-41D4-B377-92A26B62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339-C432-4CEE-8299-1A5F34A4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21F-EF88-46CC-95BE-4F40D1B9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2D1-F29B-4BF1-8C58-A4EAD32D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C3E-AFCC-40B8-9625-EB4F916B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A1B-4BA5-45A7-8BEA-62A1AD85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DBE-E7BB-4232-8458-4D003B92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A20-4FF6-488C-B435-B8A878A0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069-0797-4C9D-9ADD-1747C8EF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686-F55F-4448-B5E7-EC3CE4AE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1CFC-37A1-488F-BF58-D7D22E221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Central As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651200" cy="768240"/>
            <a:chOff x="2743200" y="378000"/>
            <a:chExt cx="46512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6512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956120" cy="768240"/>
            <a:chOff x="2743200" y="378000"/>
            <a:chExt cx="495612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9561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956120" cy="768240"/>
            <a:chOff x="2743200" y="378000"/>
            <a:chExt cx="495612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9561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724280" cy="768240"/>
            <a:chOff x="2743200" y="378000"/>
            <a:chExt cx="472428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72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15:57Z</dcterms:modified>
  <cp:revision>119</cp:revision>
  <dc:subject/>
  <dc:title>Museum of World Stuff</dc:title>
</cp:coreProperties>
</file>